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7A5B-3B52-4AB5-AE70-05C1BCEFFF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urb-iro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228E-4AF4-4D31-A3B5-8F4F41D732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itical to Web Project – Faculties are the corner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578C-37A7-4ADB-8305-91EFC5AF7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BC33-FE7A-4283-8684-DCCAB2018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BD7-C2AE-498A-9942-4EB853D1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4DA-B1A3-4D67-8E37-442DA05B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7D8-26D0-48D3-A2B5-59352722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3D2-21A0-4B52-AB89-124B70E2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A5DB-E49C-4A37-AAA1-96F6FB26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DFDC-CABB-4B69-9619-39C46BB5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F6D3-64F1-4158-BE94-4A0C630D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80A5-A628-4490-9057-74D1D5C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2EC7-099E-412A-B6F3-F15DB9F4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584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3E8C-D3A7-4E3F-A34A-02D6B726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1363-6497-43B4-A295-8BF1FA57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643-6E8F-4378-99B3-B11F85BF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BA77-342C-4AE6-9F52-8ECC8839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7D8A-0BE3-417C-92C4-6A95E149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0044-7499-43E4-A3AB-DEEF5F5A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E449-78A2-4D30-9D95-F90714EA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73C7-BB86-40EA-9C04-5A640BF3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2CBB-E754-4A66-8930-516A0816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8FBC-26FA-4585-9881-957AA90F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C8D9-394F-4320-924D-E51EF44B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DD56-CFAA-4C7B-8EE2-758E68EE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915A-01F0-4DD3-91AD-6F327DA6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3FF-23F6-4F3F-BA93-5AA8635B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584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DECB2-4D39-4A68-80AE-33FD8EEA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5BE2-F2E7-4A8A-97B8-3ADDEDF2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41F6-F3EF-4504-A7A0-4302F88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DC489-C061-44C6-B7D7-092F1843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CEFC-BAB2-4EC3-8445-F4B1D26E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F0A9-FAFF-4D26-A1CB-9206B1FE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B4D2-98A2-4D5C-B9B7-64F7AD80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C9A92-BBEF-4B2A-8899-A5128F19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F1B1-BAB5-4A2E-9EFE-9EAA83EF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C39E-6043-46AB-BE34-B54C0AA0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E4A-2758-493A-9E7C-1FCA9287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411FF-1989-4929-851F-511C85D5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4808A-411E-4215-931C-3392FEF4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584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C09C6-2954-4AB3-94BC-BAB98AB2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56278-556C-4048-A641-9193FC8A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CCC0D-40E9-4043-A862-B38D04BC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3E67-BF46-474A-BA67-6BE314D8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2A7E-B5A2-465F-8C14-74C5CC67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1660-2F30-47FC-9660-4787F692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8861-9747-4A54-808E-B596BAE7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DE1-7C05-4D77-98CE-6B409AE4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584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AB8-97BB-4482-9209-B1B0439B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608-DAAF-4B28-8C29-0E8CACB3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F2F-7B79-48D1-B8BB-C2CB8D1C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74C-7A65-488B-B353-C7F816B4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C1CE-DABC-4C4D-8D55-4292F56420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TAB_col_white_background.eps"/>
          <p:cNvPicPr/>
          <p:nvPr/>
        </p:nvPicPr>
        <p:blipFill>
          <a:blip r:embed="rId2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TAB_col_white_background.eps"/>
          <p:cNvPicPr/>
          <p:nvPr/>
        </p:nvPicPr>
        <p:blipFill>
          <a:blip r:embed="rId2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AB_col_white_background.eps"/>
          <p:cNvPicPr/>
          <p:nvPr/>
        </p:nvPicPr>
        <p:blipFill>
          <a:blip r:embed="rId3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8083-04E2-4D78-BEFD-BCA82DB681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TAB_col_white_background.eps"/>
          <p:cNvPicPr/>
          <p:nvPr/>
        </p:nvPicPr>
        <p:blipFill>
          <a:blip r:embed="rId2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AB_col_white_background.eps"/>
          <p:cNvPicPr/>
          <p:nvPr/>
        </p:nvPicPr>
        <p:blipFill>
          <a:blip r:embed="rId3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5161-E341-4598-84EE-A7A5153F75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TAB_col_white_background.eps"/>
          <p:cNvPicPr/>
          <p:nvPr/>
        </p:nvPicPr>
        <p:blipFill>
          <a:blip r:embed="rId2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TAB_col_white_background.eps"/>
          <p:cNvPicPr/>
          <p:nvPr/>
        </p:nvPicPr>
        <p:blipFill>
          <a:blip r:embed="rId3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6C67-0B48-4D6A-A7B4-AA6930615E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anchester.ac.uk/brand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andy.simmons@manchester.ac.uk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University Marketing web update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November 2013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Arila"/>
              </a:rPr>
              <a:t>Andy Simmons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Arila"/>
              </a:rPr>
              <a:t>Content Manager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Arila"/>
              </a:rPr>
              <a:t>University Marketing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-23760" y="-1764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Course profiles – next steps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Requirements for enhanced course profiles agreed and awaiting prioritisation and schedul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Integration of course units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How to define the relationship between corporate and School course profiles?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Separate from website redevelopment projec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Style guide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Revised and expand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New sections – more intuitiv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In advance of the content strand of the web projec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la"/>
                <a:hlinkClick r:id="rId1"/>
              </a:rPr>
              <a:t>www.manchester.ac.uk/brand</a:t>
            </a: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Columba events system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All Faculties and visitor attractions are using/planning to use Columba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Student recruitment, business engagement and student communications are recent adopters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Embedded event data enabling bespoke feeds on local sites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126792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Part 2 – Corporate website redevelopment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Delivery by end of April 2014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Fully responsive desig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New site structure and page layou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New desig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New/updated content, optimised for search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Four strands of activity, four agenc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Project strands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Information architecture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la"/>
              </a:rPr>
              <a:t>IA image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la"/>
              </a:rPr>
              <a:t>Mobile designs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la"/>
              </a:rPr>
              <a:t>Desktop designs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Part 1 – What we’ve been up to since the last web network meeting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Template upgrad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ampus map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urse profiles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House style guide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lumba events system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Jodrell Bank Discovery centre website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21" name="Picture 2" descr="C:\Users\Victoria\AppData\Local\Microsoft\Windows\Temporary Internet Files\Content.IE5\I4RM47IB\MC900110849[1].wmf"/>
          <p:cNvPicPr/>
          <p:nvPr/>
        </p:nvPicPr>
        <p:blipFill>
          <a:blip r:embed="rId1"/>
          <a:stretch/>
        </p:blipFill>
        <p:spPr>
          <a:xfrm>
            <a:off x="2679840" y="2492280"/>
            <a:ext cx="36604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Using new site structure to audit existing and plan new cont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Enhancing our reputation and building the br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Working with Mediacom to optimise for searc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Site structure – complete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Wireframes – complete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Design – nearing completion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Build – imminent, pending agreement on design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ntent audit – complete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ntent creation – started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nsultation – ongoing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Testing – ongoing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l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la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Andy Simmons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ntent Manager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University Marketing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la"/>
                <a:hlinkClick r:id="rId1"/>
              </a:rPr>
              <a:t>andy.simmons@manchester.ac.uk</a:t>
            </a: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52090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ounded Rectangle 4"/>
          <p:cNvSpPr/>
          <p:nvPr/>
        </p:nvSpPr>
        <p:spPr>
          <a:xfrm>
            <a:off x="7093080" y="476280"/>
            <a:ext cx="143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rger map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ounded Rectangle 5"/>
          <p:cNvSpPr/>
          <p:nvPr/>
        </p:nvSpPr>
        <p:spPr>
          <a:xfrm>
            <a:off x="7093080" y="1268280"/>
            <a:ext cx="143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xpanded data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7"/>
          <p:cNvSpPr/>
          <p:nvPr/>
        </p:nvSpPr>
        <p:spPr>
          <a:xfrm>
            <a:off x="7093080" y="2060640"/>
            <a:ext cx="1439640" cy="79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Course profiles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First phase of redevelopment now complete for all undergraduate and postgraduate programmes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Tabs reorganis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New design applied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92" name="Content Placeholder 3" descr="early_example.jpg"/>
          <p:cNvPicPr/>
          <p:nvPr/>
        </p:nvPicPr>
        <p:blipFill>
          <a:blip r:embed="rId1"/>
          <a:stretch/>
        </p:blipFill>
        <p:spPr>
          <a:xfrm>
            <a:off x="-117360" y="0"/>
            <a:ext cx="926136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-54000"/>
            <a:ext cx="91044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5:56:20Z</dcterms:created>
  <dc:creator>MZYSSPB2</dc:creator>
  <dc:description/>
  <dc:language>en-US</dc:language>
  <cp:lastModifiedBy>MWWSSADS</cp:lastModifiedBy>
  <dcterms:modified xsi:type="dcterms:W3CDTF">2013-11-06T09:26:11Z</dcterms:modified>
  <cp:revision>54</cp:revision>
  <dc:subject/>
  <dc:title>Slide 1</dc:title>
</cp:coreProperties>
</file>